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4.2-</a:t>
            </a:r>
            <a:fld id="{B20BF683-CAD8-4E70-BB82-042D8C35282E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55640" y="0"/>
            <a:ext cx="5832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2104920" y="343080"/>
              <a:ext cx="4934160" cy="6172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termediate Value Theor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y polynomial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ith real coefficients, suppose that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re of opposite signs. Then the function has a real zero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ing the intermediate value theorem, determine, if possible, whether the function has a real zero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olu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784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determine where they differ in sign. The graph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rovides a visual che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=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=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intermediate value theorem, si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have opposite signs, t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has a zero betwe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410080" y="2133720"/>
            <a:ext cx="2381400" cy="23810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334120" y="3124080"/>
            <a:ext cx="609480" cy="53352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2743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64920" y="1905120"/>
            <a:ext cx="1521000" cy="368280"/>
          </a:xfrm>
          <a:prstGeom prst="rect">
            <a:avLst/>
          </a:prstGeom>
          <a:solidFill>
            <a:srgbClr val="0080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olu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219320"/>
            <a:ext cx="7238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= (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(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(1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 = (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(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(3)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intermediate value theorem, si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 have opposite signs, t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has a zero between 1 and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971800" y="3657600"/>
            <a:ext cx="2381400" cy="23814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flipH="1">
            <a:off x="4648320" y="4648320"/>
            <a:ext cx="838080" cy="5331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0" y="4267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55240" y="3505320"/>
            <a:ext cx="1521000" cy="368280"/>
          </a:xfrm>
          <a:prstGeom prst="rect">
            <a:avLst/>
          </a:prstGeom>
          <a:solidFill>
            <a:srgbClr val="0080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TER 4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Polynomial and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Rational Function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7720" y="28951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1 Polynomial Functions and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2 Graphing Polynom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3 Polynomial Division; The Remainder and Factor Theor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4 Theorems about Zeros of Polynom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5 Ration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6 Polynomial and Rational Inequ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4.2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aphing Polynomial Functions</a:t>
            </a:r>
            <a:br>
              <a:rPr sz="3600"/>
            </a:b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22856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polynomial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intermediate value theorem to determine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ther a function has a real zero between two giv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aphing Polynomial Fun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a polynomial function of degre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graph of the function h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al zeros, and thu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intercept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 turning 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urning points on a graph, also called relative maxima and minima, occur when the function changes from decreasing to increasing or from increasing to decreasing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Steps to Graph a Polynomial Function 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leading-term test to determine the end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zeros of the function by solv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0. Any real zeros are the first coordinates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intercep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intercepts (zeros) to divide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axis into intervals and choose a test point in each interval to determine the sign of all function values in that interv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). This give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intercept of the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ecessary, find additional function values to determine the general shape of the graph and then draw the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partial check, use the facts that the graph has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intercepts an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 turning points. Multiplicity of zeros can also be considered in order to check where the graph crosses or is tangent to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axis. We can also check the graph with a graphing calcul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the polynomial fun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he leading term is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degree, 3, is odd, the coefficient, 2, is positive. Thus the end behavior of the graph will appear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the zero, we solv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. Here we can use factoring by group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638680" y="388620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8076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eros a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 and 2.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intercepts ar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 0),    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, 0), and (2, 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eros divide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axis into four interv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,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),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, 2), and (2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hoose a test valu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each interval and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057400" y="1600200"/>
          <a:ext cx="2979720" cy="18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600200"/>
                    <a:ext cx="2979720" cy="18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090440" y="1627200"/>
            <a:ext cx="7477200" cy="2563920"/>
            <a:chOff x="1090440" y="1627200"/>
            <a:chExt cx="7477200" cy="2563920"/>
          </a:xfrm>
        </p:grpSpPr>
        <p:sp>
          <p:nvSpPr>
            <p:cNvPr id="102" name=""/>
            <p:cNvSpPr/>
            <p:nvPr/>
          </p:nvSpPr>
          <p:spPr>
            <a:xfrm>
              <a:off x="6559920" y="3767760"/>
              <a:ext cx="200736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ov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ax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05880" y="3767760"/>
              <a:ext cx="145368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20960" y="3767760"/>
              <a:ext cx="138456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85880" y="3767760"/>
              <a:ext cx="113472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90440" y="3767760"/>
              <a:ext cx="149544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2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59920" y="3344040"/>
              <a:ext cx="200736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low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ax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05880" y="3344040"/>
              <a:ext cx="145368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20960" y="3344040"/>
              <a:ext cx="138456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85880" y="3344040"/>
              <a:ext cx="113472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90440" y="3344040"/>
              <a:ext cx="149544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/2,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59920" y="2920680"/>
              <a:ext cx="200736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ov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ax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05880" y="2920680"/>
              <a:ext cx="145368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20960" y="2920680"/>
              <a:ext cx="138456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85880" y="2920680"/>
              <a:ext cx="113472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90440" y="2920680"/>
              <a:ext cx="149544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/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59920" y="2466360"/>
              <a:ext cx="200736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low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ax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05880" y="2466360"/>
              <a:ext cx="145368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20960" y="2466360"/>
              <a:ext cx="138456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85880" y="2466360"/>
              <a:ext cx="113472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90440" y="2466360"/>
              <a:ext cx="149544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59920" y="1627200"/>
              <a:ext cx="2007360" cy="83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ocation of points on grap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05880" y="1627200"/>
              <a:ext cx="1453680" cy="83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gn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20960" y="1627200"/>
              <a:ext cx="1384560" cy="83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unction value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85880" y="1627200"/>
              <a:ext cx="1134720" cy="83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st Value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90440" y="1627200"/>
              <a:ext cx="1495440" cy="83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erv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90440" y="1627200"/>
              <a:ext cx="7477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90440" y="2466360"/>
              <a:ext cx="747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90440" y="2920680"/>
              <a:ext cx="747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90440" y="3344040"/>
              <a:ext cx="747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90440" y="3767760"/>
              <a:ext cx="747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90440" y="4191120"/>
              <a:ext cx="7477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90440" y="1627200"/>
              <a:ext cx="0" cy="2563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85880" y="1627200"/>
              <a:ext cx="0" cy="256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20960" y="1627200"/>
              <a:ext cx="0" cy="256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05880" y="1627200"/>
              <a:ext cx="0" cy="256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559920" y="1627200"/>
              <a:ext cx="0" cy="256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67640" y="1627200"/>
              <a:ext cx="0" cy="2563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990720" y="4343400"/>
            <a:ext cx="7924680" cy="16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 To determine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intercept, we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intercept is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13400" y="4800600"/>
          <a:ext cx="39211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3400" y="4800600"/>
                    <a:ext cx="3921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4572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find a few additional points and complete the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gre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3. The graph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have at most 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intercepts and at most 2 turning points. It has 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intercepts and 2 turning points. Each zero has a multiplicity of 1; thus the graph crosse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axis 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, and 2. The graph has the end behavior described in step (1). The graph appears to be corr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410080" y="3581280"/>
            <a:ext cx="2381400" cy="238140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5638680" y="1447920"/>
            <a:ext cx="1644840" cy="1944720"/>
            <a:chOff x="5638680" y="1447920"/>
            <a:chExt cx="1644840" cy="1944720"/>
          </a:xfrm>
        </p:grpSpPr>
        <p:sp>
          <p:nvSpPr>
            <p:cNvPr id="146" name=""/>
            <p:cNvSpPr/>
            <p:nvPr/>
          </p:nvSpPr>
          <p:spPr>
            <a:xfrm>
              <a:off x="6461280" y="2932200"/>
              <a:ext cx="822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38680" y="2932200"/>
              <a:ext cx="82260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.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61280" y="2470320"/>
              <a:ext cx="8222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.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2470320"/>
              <a:ext cx="82260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.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61280" y="1909800"/>
              <a:ext cx="8222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38680" y="1909800"/>
              <a:ext cx="822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.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61280" y="1447920"/>
              <a:ext cx="8222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38680" y="1447920"/>
              <a:ext cx="82260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38680" y="1447920"/>
              <a:ext cx="1644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638680" y="1909800"/>
              <a:ext cx="164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38680" y="2470320"/>
              <a:ext cx="164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38680" y="2932200"/>
              <a:ext cx="164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38680" y="3392640"/>
              <a:ext cx="1644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38680" y="1447920"/>
              <a:ext cx="0" cy="1944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61280" y="1447920"/>
              <a:ext cx="0" cy="19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83520" y="1447920"/>
              <a:ext cx="0" cy="1944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dc:language>en-US</dc:language>
  <cp:lastModifiedBy>Jennifer Thomas</cp:lastModifiedBy>
  <dcterms:modified xsi:type="dcterms:W3CDTF">2008-04-07T13:38:03Z</dcterms:modified>
  <cp:revision>190</cp:revision>
  <dc:subject/>
  <dc:title>No Slide Title</dc:title>
</cp:coreProperties>
</file>